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C59-A614-4E40-A610-F5650131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DE4-27B6-4AB0-8266-377D44E6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5CA-A168-4DB5-8CFF-96210A1D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99D-4699-4650-B459-CA1B19F5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A3A-6E6D-475F-90A4-45FC657B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7FC-0B2E-49A9-9D98-67E3666F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F4E-8623-4645-8B8D-E6F6688C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C11-A82D-41E9-A0D8-48AA050B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2F5-6466-4ACF-904B-4CF8942D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68C-24CE-4400-A327-D04C06C6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7D2-A4FE-4562-B5FF-1C367AC9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EEF-2F60-45EF-AE7B-58EA859B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FD2D-2A19-4D42-B3A6-7E0E33FA4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Disch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Discharge9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Discharge10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AdultDischarge11.jpg"/>
          <p:cNvPicPr/>
          <p:nvPr/>
        </p:nvPicPr>
        <p:blipFill>
          <a:blip r:embed="rId1"/>
          <a:stretch/>
        </p:blipFill>
        <p:spPr>
          <a:xfrm>
            <a:off x="766800" y="819000"/>
            <a:ext cx="76104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AdultDischarge12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AdultDischarge1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Discharge1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Discharge2.jpg"/>
          <p:cNvPicPr/>
          <p:nvPr/>
        </p:nvPicPr>
        <p:blipFill>
          <a:blip r:embed="rId1"/>
          <a:stretch/>
        </p:blipFill>
        <p:spPr>
          <a:xfrm>
            <a:off x="771480" y="838080"/>
            <a:ext cx="7601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dultDischarge3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Discharge4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Discharge5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Discharge6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Discharge7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Discharge8.jpg"/>
          <p:cNvPicPr/>
          <p:nvPr/>
        </p:nvPicPr>
        <p:blipFill>
          <a:blip r:embed="rId1"/>
          <a:stretch/>
        </p:blipFill>
        <p:spPr>
          <a:xfrm>
            <a:off x="757080" y="833400"/>
            <a:ext cx="76298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8:43:52Z</dcterms:created>
  <dc:creator>zcui</dc:creator>
  <dc:description/>
  <dc:language>en-US</dc:language>
  <cp:lastModifiedBy>rbalne</cp:lastModifiedBy>
  <dcterms:modified xsi:type="dcterms:W3CDTF">2009-08-12T13:56:45Z</dcterms:modified>
  <cp:revision>1</cp:revision>
  <dc:subject/>
  <dc:title>TRAC</dc:title>
</cp:coreProperties>
</file>